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Arial"/>
            </a:endParaRPr>
          </a:p>
        </p:txBody>
      </p:sp>
      <p:sp>
        <p:nvSpPr>
          <p:cNvPr id="10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9" name="PlaceHolder 2"/>
          <p:cNvSpPr>
            <a:spLocks noGrp="1"/>
          </p:cNvSpPr>
          <p:nvPr>
            <p:ph type="dt" idx="7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10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2" name="PlaceHolder 5"/>
          <p:cNvSpPr>
            <a:spLocks noGrp="1"/>
          </p:cNvSpPr>
          <p:nvPr>
            <p:ph type="ftr" idx="7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3" name="PlaceHolder 6"/>
          <p:cNvSpPr>
            <a:spLocks noGrp="1"/>
          </p:cNvSpPr>
          <p:nvPr>
            <p:ph type="sldNum" idx="7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F6819-F730-4931-997F-088E2A994E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D05C8-854A-4CDD-B07A-87A310F55E66}"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115" name="PlaceHolder 1"/>
          <p:cNvSpPr>
            <a:spLocks noGrp="1"/>
          </p:cNvSpPr>
          <p:nvPr>
            <p:ph type="sldImg"/>
          </p:nvPr>
        </p:nvSpPr>
        <p:spPr>
          <a:xfrm>
            <a:off x="1143000" y="685800"/>
            <a:ext cx="4572000" cy="3429000"/>
          </a:xfrm>
          <a:prstGeom prst="rect">
            <a:avLst/>
          </a:prstGeom>
          <a:ln w="0">
            <a:noFill/>
          </a:ln>
        </p:spPr>
      </p:sp>
      <p:sp>
        <p:nvSpPr>
          <p:cNvPr id="1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FE657-D4E1-493F-97B5-A8972074A1ED}"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6A60E46-46FD-40DA-B07B-EA3C4C8748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2BB7735-A3C5-44C0-964A-928DA20E3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3B8AFEC1-8DED-4193-A9D4-5891056EF41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9175A5FE-94DD-4FE0-809F-3772181BF23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6C6FEE69-9E33-4F1B-BB17-50A652BDC6B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7A5E07D2-6844-456E-A00B-A303587FB70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5097796A-6969-43B9-A1AF-17E54027563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3EBBE1BE-227C-428D-83BB-D41934D7696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F6504767-2220-4132-9B74-AA39B3AED7B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5"/>
          </p:nvPr>
        </p:nvSpPr>
        <p:spPr/>
        <p:txBody>
          <a:bodyPr/>
          <a:p>
            <a:fld id="{EA59F90A-B542-48BB-AAE1-7DD35E0E2C70}"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5"/>
          </p:nvPr>
        </p:nvSpPr>
        <p:spPr/>
        <p:txBody>
          <a:bodyPr/>
          <a:p>
            <a:fld id="{0D6E6780-2189-4E72-A0A4-15B63EE733E0}"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28"/>
          </p:nvPr>
        </p:nvSpPr>
        <p:spPr/>
        <p:txBody>
          <a:bodyPr/>
          <a:p>
            <a:fld id="{484D78AE-C590-4F9A-8041-566D7060BE4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928ABDD-DA46-4E89-8973-1678E01E7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CF622C87-BF1C-4673-A495-8FFF21917CE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3F44AB26-297C-45F9-907A-6AA8DE78A16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4C5E4550-1DF5-4A55-A028-AA1FADE04C5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D17444A8-A93E-4670-84A7-A0FC8C52F95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1EF4CCCD-63B3-441E-80E4-AF9BAB29331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A20B9EDA-8987-4705-83B3-23D445A05EB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09D50BC9-3907-4C7F-B92E-2A109861D92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6ADCD030-F225-4A24-9D78-2D6FF4AD987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B6A3173D-5132-4E18-A43B-62CE7E9EFA9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28"/>
          </p:nvPr>
        </p:nvSpPr>
        <p:spPr/>
        <p:txBody>
          <a:bodyPr/>
          <a:p>
            <a:fld id="{588200A1-2C0F-4B75-9777-EC30A24DF31F}"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1CA3450-8392-45BE-B8F8-ADEE4D672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28"/>
          </p:nvPr>
        </p:nvSpPr>
        <p:spPr/>
        <p:txBody>
          <a:bodyPr/>
          <a:p>
            <a:fld id="{2BF797E9-0184-4300-BC2E-79A5F5FFC0D2}"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1"/>
          </p:nvPr>
        </p:nvSpPr>
        <p:spPr/>
        <p:txBody>
          <a:bodyPr/>
          <a:p>
            <a:fld id="{A930B817-EDDE-4F42-B18D-E2F10274804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6"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AD8839F8-09AD-4079-848F-63BA45C2425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BECE766D-1DA3-454A-BAFF-28AAC4705A9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0A23F183-5C7D-4E53-8B6E-8C34329BF80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2708B209-6C55-460A-9B54-D73F85CC481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2BA7E784-37A2-4D79-ABE0-A6AE3040726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3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3D3E71B5-2238-4E8C-AF6D-A192EA15A02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1"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0AD43EE6-CA4C-4B47-895B-0B855D487A6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4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5"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D2853A35-1532-438A-8B6B-9359F78E4FE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62E33A-B7F8-44A6-BD04-8981A54F7B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47"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8"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C24B9338-6E16-4672-A45B-77FB0CCCE4B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5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3"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1"/>
          </p:nvPr>
        </p:nvSpPr>
        <p:spPr/>
        <p:txBody>
          <a:bodyPr/>
          <a:p>
            <a:fld id="{AEF8009C-2D0E-47C5-B537-A16DD238808B}"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55"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6"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7"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8"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9"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0"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1"/>
          </p:nvPr>
        </p:nvSpPr>
        <p:spPr/>
        <p:txBody>
          <a:bodyPr/>
          <a:p>
            <a:fld id="{7028C28A-4428-4A71-956F-98BA0D70F61E}"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4"/>
          </p:nvPr>
        </p:nvSpPr>
        <p:spPr/>
        <p:txBody>
          <a:bodyPr/>
          <a:p>
            <a:fld id="{6610FF0D-BDBE-4A9D-9EAB-280BE920E449}"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6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4"/>
          </p:nvPr>
        </p:nvSpPr>
        <p:spPr/>
        <p:txBody>
          <a:bodyPr/>
          <a:p>
            <a:fld id="{470DB5B6-84A5-43B3-B955-3D80F3B613A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6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4"/>
          </p:nvPr>
        </p:nvSpPr>
        <p:spPr/>
        <p:txBody>
          <a:bodyPr/>
          <a:p>
            <a:fld id="{C8BB70E9-02E2-467D-921A-AC2C29962636}"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7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4"/>
          </p:nvPr>
        </p:nvSpPr>
        <p:spPr/>
        <p:txBody>
          <a:bodyPr/>
          <a:p>
            <a:fld id="{28DEEB7B-3654-4CFC-82CE-C15304C30A1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4"/>
          </p:nvPr>
        </p:nvSpPr>
        <p:spPr/>
        <p:txBody>
          <a:bodyPr/>
          <a:p>
            <a:fld id="{E7745D2D-996E-49BB-B905-36186B4203B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4"/>
          </p:nvPr>
        </p:nvSpPr>
        <p:spPr/>
        <p:txBody>
          <a:bodyPr/>
          <a:p>
            <a:fld id="{8C4515F2-CB48-450F-BC24-956C8D94F21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7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D2BA3DA2-F8F5-4898-B8C7-04210A69FAF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6653FC-5E4C-4FAB-8220-8ABEEBF8D2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8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4CE5DFF2-77BD-47A6-8CAE-481DED1FB09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8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9E24E9E6-ECDA-48C8-8882-96E1E884491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8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4"/>
          </p:nvPr>
        </p:nvSpPr>
        <p:spPr/>
        <p:txBody>
          <a:bodyPr/>
          <a:p>
            <a:fld id="{74531038-662D-4456-A140-28258CD746A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9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4"/>
          </p:nvPr>
        </p:nvSpPr>
        <p:spPr/>
        <p:txBody>
          <a:bodyPr/>
          <a:p>
            <a:fld id="{673B7981-3CEC-4D84-A273-1C1C53C483F3}"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9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4"/>
          </p:nvPr>
        </p:nvSpPr>
        <p:spPr/>
        <p:txBody>
          <a:bodyPr/>
          <a:p>
            <a:fld id="{59BB2EBE-1D56-45E0-9281-3B539221E5CB}"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7"/>
          </p:nvPr>
        </p:nvSpPr>
        <p:spPr/>
        <p:txBody>
          <a:bodyPr/>
          <a:p>
            <a:fld id="{31A79E66-C76A-4E7C-AA50-31B5A39B10B2}"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0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7"/>
          </p:nvPr>
        </p:nvSpPr>
        <p:spPr/>
        <p:txBody>
          <a:bodyPr/>
          <a:p>
            <a:fld id="{09F8D184-9915-446E-9624-CE67187D6EBF}"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1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7"/>
          </p:nvPr>
        </p:nvSpPr>
        <p:spPr/>
        <p:txBody>
          <a:bodyPr/>
          <a:p>
            <a:fld id="{B0C59695-487B-48A7-B6E7-D4BC5716032D}"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1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7"/>
          </p:nvPr>
        </p:nvSpPr>
        <p:spPr/>
        <p:txBody>
          <a:bodyPr/>
          <a:p>
            <a:fld id="{3105503C-95C3-4C17-B8EB-3A2D67367B7B}"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7"/>
          </p:nvPr>
        </p:nvSpPr>
        <p:spPr/>
        <p:txBody>
          <a:bodyPr/>
          <a:p>
            <a:fld id="{A62701E4-E95E-408A-8DE7-BE63B1772A97}"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6C98C-F215-403D-AEA2-8D682E5EEA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7"/>
          </p:nvPr>
        </p:nvSpPr>
        <p:spPr/>
        <p:txBody>
          <a:bodyPr/>
          <a:p>
            <a:fld id="{71EACDD3-2A38-41FE-A5EB-B34CE6897109}"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1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801CE6D3-932F-4D10-B3BC-434761BC726C}"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C81FDA41-41AA-402A-B6CF-31093FD29DFB}"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42F09796-B68C-4F2D-B841-BBD6793B7C47}"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7"/>
          </p:nvPr>
        </p:nvSpPr>
        <p:spPr/>
        <p:txBody>
          <a:bodyPr/>
          <a:p>
            <a:fld id="{D730F881-2CBA-440E-B1A2-C1A8E57C3D46}"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7"/>
          </p:nvPr>
        </p:nvSpPr>
        <p:spPr/>
        <p:txBody>
          <a:bodyPr/>
          <a:p>
            <a:fld id="{4152EF12-E3F9-4B44-B459-E856301F68E7}"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3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7"/>
          </p:nvPr>
        </p:nvSpPr>
        <p:spPr/>
        <p:txBody>
          <a:bodyPr/>
          <a:p>
            <a:fld id="{7B19D001-5408-4F9B-B1D3-3FEF509D3334}"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FEFDCD50-A8D3-48CB-BEB9-B758B4D7F1D3}"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5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5E60C857-6396-422D-B62D-FBB9E57D37E1}"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5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4C8F7B17-35A4-4D2E-9EDC-26DE67DB7538}"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3E5BC7-D30F-4194-B57A-D5D7DA618C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5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768D9DBE-D8F8-4373-A660-E40929F13858}"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73B1F0DD-72F7-46EC-A989-66F565513FEF}"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5257C380-C821-45DF-8E28-A59D3345A758}"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BBB33FCB-9EAF-48AE-ACA2-3A17304F7221}"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2C3B2688-B988-4964-97B1-43C2D558C58A}"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A3D8D351-7E7E-4811-B1C4-7802CF03A376}"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0716A099-6746-4B43-A6FE-D2EFC68305CC}"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18088A31-355B-400F-B1EC-3B90D1A5F004}"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E12E6DF2-6BAE-4D86-BBB3-47DF524C6696}"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7269A88E-4B2A-4873-82D3-BA5A04DFB12F}"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077D9-B2A1-4D22-971F-659DAD6DDA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48788693-9293-4D51-9240-23E5880B4C5D}"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72F065B5-AA93-4B6F-8D9D-BFAFF2000C82}"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3BE91580-AD78-4A5B-A496-EC9756C6C7C8}"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F450ABD0-2B3A-4D4E-846D-A87F6A95779E}"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D3AA9498-6179-4742-AB60-35B49AB33EFC}"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F9F98126-F9E7-49A0-B568-DE6D878C5911}"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B29D837A-5944-4D4C-932A-6E35E646F52C}"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30B54C37-A28B-4455-B02F-D12006C6A5C0}"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BBAE31F6-C8A8-40EA-868A-C573A44FB0D4}"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311F25FB-463F-46B5-B8B4-A92C365E3315}"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D1443-F461-4EDF-A2A1-0D8653CF6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2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DC2F1219-0771-4E93-BB9E-2A7E1AC21E95}"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9D5F4C0A-D676-4E53-B419-CF5E1EA127FA}"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3DF645CF-5E3E-4449-B0EA-98D0FC599036}"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069EE6AC-95BF-47C7-A247-C8925BF28D2F}"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4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9338D4C7-D2FA-4AA6-A9DA-7D4EC810942A}"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62671881-AFEC-48C4-94B9-432A4EE0FD43}"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8C80496A-7541-4965-A894-B0E19773A484}"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2C69A60C-F17F-4313-AE91-D12DE260DFBB}"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5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95D5EFF1-7D20-4407-B312-CEB228CAC055}"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5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F949C3C7-3AE8-408A-AB8C-EF8CC864BA5A}"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AA696-1707-4987-A8AA-E9A630A98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5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74369655-0ABC-403B-A546-0E5E396D62EC}"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6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63378C55-8F4C-4478-AC1A-01D2779A29EB}"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6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040DB32A-3910-452D-B6F1-E2258B714802}"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B57D0FF9-47CD-4A72-A083-3A6681BC24DD}"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718AFE93-7CBC-4FA5-84DD-0360C6B729FB}"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8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6FE5318F-8BC1-4754-BFB5-997D18479BD5}"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8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5D52E45B-50EB-4261-87BF-AB61C2C7E206}"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2B00B70D-8A08-42C1-8166-5B74E03A2197}"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8BDAD877-4E76-4DB6-ADA5-FD769A6DBCA9}"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8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5A75402B-0001-4AE9-9108-F3DB7249CDF3}"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CE1B8D4-2309-4140-BBEF-B0226D24D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6F30B-9B91-4122-B4B9-40C9ADB50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9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53479CBE-5FEE-47DA-8695-76B27910A201}"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9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F5446437-8A15-4398-BDA5-B8355B1585E0}"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9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1319D720-49D2-4EFD-9147-1F8B359D146D}"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0FB1C7D2-8892-4F59-96B6-C6929613B081}"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0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FAB022E5-998B-4EAC-B971-051A83853349}"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5A75DAF6-DB70-40EF-93B0-96F65BDAA488}"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B5E2160C-4FE0-44F6-92C9-7D538466D18F}"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2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067328A4-803E-405A-98B3-C035702EF99B}"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2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99FC06CD-8281-438C-93B1-603977F382E9}"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6D61395F-90DD-40F0-90F3-218942149105}"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F1C86-21CB-4C3E-A09D-22410FE58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F15DF302-C04D-416E-812B-A491F73BE35D}"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2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E308978D-6633-4834-B421-EFD229EE7A2B}"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3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E20DC1C2-D033-47F3-BF19-0B593B771AC6}"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3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3364D579-3F6D-4DDD-98C9-1FE2DA77FD3E}"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7C9ABA4E-1230-491F-B667-060D4A5480DD}"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15C5D51A-320A-471B-B1C2-591546A46489}"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6CBAA787-C3EF-4B49-8373-D6E412BCBB0D}"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3ABD371C-C709-47CA-8A1B-58B1E0C05093}"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6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825488F7-5CEE-4D6A-B906-24D3A4550175}"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6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C7B8AFFD-A048-4E97-BC56-8AFE1260A7D6}"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F460C-265C-4244-A93D-F0FEF4E3B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8B166B6A-3F08-4090-99E7-DC30D1D2A80B}"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326A63AC-BE0B-424B-B8B0-C2A45E15E62A}"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4856908F-0A32-491C-999D-BA16524A4946}"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C9B7036B-41B0-423D-B9D1-4DC0D9EA318B}"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7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046E1264-AE21-47A2-AA33-011FCA0E1F76}"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BCC72D3B-4A69-4266-AE99-EBC6D3AA34E5}"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824C98E8-7074-495B-8BC7-CC83DB072D50}"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756778CE-FD8B-4DBA-B02E-6E3C8F21FA33}"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9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9EBFF6B3-9941-4663-ACA0-9D1F42B85220}"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4C0353C0-00C9-4EBA-9824-78E26382FD9D}"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09562D-275F-4EF5-BB0B-121EE2DEC7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0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CC926637-15A1-4DA4-B17F-8A1D9E5FE3A2}"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0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D07B3601-297B-471F-B3A9-BBA72BA5CA2A}"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0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91009B69-73E5-469E-B52B-B2E03124FAD1}"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D5F71FB1-CAFD-4789-8AC4-400D1C6E23A1}"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2FB75275-5519-469E-9862-59837FA27832}"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1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D62C773B-7087-4CC5-9C72-F357AB5A2413}"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1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BE894205-F35C-49E9-A60A-D11A0C7D5C90}"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8A2B8EE9-AD3E-4CF7-A7BA-4C942E28F52F}"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2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ED87D0C3-C0B8-4475-BD59-A0195DB68573}"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2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1CAC8DEB-9F72-4A3A-BB08-7F3924AC1844}"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A82E2E-9FA4-49F9-95E4-6929A6E36B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DBC8881F-FA47-45EF-90AF-FE8FD1EA5BC9}"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483A715E-2096-4CD0-BA9C-18C43A9ADFEF}"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6FA1D6D2-0001-4DFA-BC4E-D256FA278F4A}"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83C0D04A-7CB6-4E2F-B417-DABD17A4DCB0}"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21DF2672-2C0A-478E-8D98-ECA6C100E37D}"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583DF841-75CC-4C9B-9B5C-813992884969}"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8252C2B5-FCB4-455E-B6A7-E0C6C4DFBA70}"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71209942-841A-44D0-91FE-685977273897}"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8877EDBE-37F3-4C05-B54A-AFB0BBBDDA93}"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5A1583C0-42E6-45E1-8197-8FF48DBDEA85}"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74B30281-6D9E-4712-9391-4E7C30150EEF}"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731E41F0-55D6-4BAC-9B08-BD6CBE5B7585}"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5748C834-D1A6-4C5C-94E7-F7B56055CA37}"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596E867F-F3C2-4AB8-B636-A81B8148CD9C}"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84E78304-CEA2-409F-A37C-22E8C8B10273}"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9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79FACA8C-44EE-4117-BC7C-28A79EACA825}"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9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F84B4C69-7012-4BAD-9927-C650D2F9A1A3}"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9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FF110ECE-4EFC-4134-98DE-94EF93DAD66F}"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C652D482-0221-46F7-9E30-FA366EFA93DA}"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4267EA3B-B851-463A-9343-7AA5BDF9998C}"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0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94C6591B-3575-428E-9FE9-FC74231B226C}"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BF7A6F1-D3FE-41DD-A2A9-5219243655E8}"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0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392CA06A-8584-41E8-AE6B-F8D85FECA23F}"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68A41D84-B9E2-4FDA-9375-4F1B7F32E0FC}"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1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8E8324B0-F62C-4932-96C2-BC4DFEDD976B}"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1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BD289390-E462-408D-B24B-F7FBB33D9992}"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2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A661F594-97A5-49B4-86A7-77FA47C3AFA5}"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AAF7A6CD-E2B7-4F48-8763-E5A1A5FF70D6}"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3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0D2D0D75-362A-4223-BB8C-ECA5A347A75F}"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3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AE4E9B3B-2AB2-4C57-B5FB-F86B939E2692}"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3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3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E8C9B79D-0BE6-4A0B-8B70-C3260443F290}"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C667AB4D-CDB0-4D36-B114-E92BE35E2331}"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EEE7CA7-0593-46A0-8606-1FDCD1DFFCF4}"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D03C38B5-8EDF-46C6-A816-73EABAFE55FC}"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4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4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4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DBD25287-FFAB-4E21-B2D2-43557370CB42}"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4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0A184019-D3E8-4B6E-BD76-48C4BC9B36A3}"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5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5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5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B461B363-B3C0-4E84-B9AB-BEE25A4BFE99}"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5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5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1DA83C1C-92B8-4E2A-9CE7-7B081C58FD43}"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5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6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0CF8B5DD-662B-47A4-AF28-3F814C25ED1A}" type="slidenum">
              <a:t>&lt;#&gt;</a:t>
            </a:fld>
          </a:p>
        </p:txBody>
      </p:sp>
      <p:sp>
        <p:nvSpPr>
          <p:cNvPr id="9" name="PlaceHolder 8"/>
          <p:cNvSpPr>
            <a:spLocks noGrp="1"/>
          </p:cNvSpPr>
          <p:nvPr>
            <p:ph type="dt" idx="66"/>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6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6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6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6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6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6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47FF7123-F873-4D01-91F6-CEFAFF737E85}" type="slidenum">
              <a:t>&lt;#&gt;</a:t>
            </a:fld>
          </a:p>
        </p:txBody>
      </p:sp>
      <p:sp>
        <p:nvSpPr>
          <p:cNvPr id="11" name="PlaceHolder 10"/>
          <p:cNvSpPr>
            <a:spLocks noGrp="1"/>
          </p:cNvSpPr>
          <p:nvPr>
            <p:ph type="dt" idx="66"/>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0"/>
          </p:nvPr>
        </p:nvSpPr>
        <p:spPr/>
        <p:txBody>
          <a:bodyPr/>
          <a:p>
            <a:r>
              <a:t>Footer</a:t>
            </a:r>
          </a:p>
        </p:txBody>
      </p:sp>
      <p:sp>
        <p:nvSpPr>
          <p:cNvPr id="3" name="PlaceHolder 2"/>
          <p:cNvSpPr>
            <a:spLocks noGrp="1"/>
          </p:cNvSpPr>
          <p:nvPr>
            <p:ph type="sldNum" idx="71"/>
          </p:nvPr>
        </p:nvSpPr>
        <p:spPr/>
        <p:txBody>
          <a:bodyPr/>
          <a:p>
            <a:fld id="{C8077A13-76C1-469A-9E89-39E4F35877CB}"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FE69C858-AAA0-462F-A0FB-4C9111B02CDB}"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F52AE911-9CCE-42EF-B160-AF2FA55D961C}"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B681FE3-15A7-4E5F-B627-7C9F20CDD62C}"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8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8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42601320-E93A-407E-9600-2BB3865ABF93}"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0D7A84E3-F10C-4813-9D30-FB069C5C98C0}"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7016BAF5-999E-4B29-A532-8D0CB5ED6BF8}"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8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8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8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9F116230-8303-47AF-804E-CE9AF2FAAB2C}"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9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CE815456-0FBF-4E83-94EB-841B7E890761}"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9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9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BA857548-690B-40EC-BFB9-416F2B376BFA}"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9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5B946396-F13C-40C2-A5BF-968D41CF841D}"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0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0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0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70"/>
          </p:nvPr>
        </p:nvSpPr>
        <p:spPr/>
        <p:txBody>
          <a:bodyPr/>
          <a:p>
            <a:r>
              <a:t>Footer</a:t>
            </a:r>
          </a:p>
        </p:txBody>
      </p:sp>
      <p:sp>
        <p:nvSpPr>
          <p:cNvPr id="8" name="PlaceHolder 7"/>
          <p:cNvSpPr>
            <a:spLocks noGrp="1"/>
          </p:cNvSpPr>
          <p:nvPr>
            <p:ph type="sldNum" idx="71"/>
          </p:nvPr>
        </p:nvSpPr>
        <p:spPr/>
        <p:txBody>
          <a:bodyPr/>
          <a:p>
            <a:fld id="{5D313144-34F0-44FC-AB02-1CC26973DD53}" type="slidenum">
              <a:t>&lt;#&gt;</a:t>
            </a:fld>
          </a:p>
        </p:txBody>
      </p:sp>
      <p:sp>
        <p:nvSpPr>
          <p:cNvPr id="9" name="PlaceHolder 8"/>
          <p:cNvSpPr>
            <a:spLocks noGrp="1"/>
          </p:cNvSpPr>
          <p:nvPr>
            <p:ph type="dt" idx="69"/>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0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0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0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1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1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70"/>
          </p:nvPr>
        </p:nvSpPr>
        <p:spPr/>
        <p:txBody>
          <a:bodyPr/>
          <a:p>
            <a:r>
              <a:t>Footer</a:t>
            </a:r>
          </a:p>
        </p:txBody>
      </p:sp>
      <p:sp>
        <p:nvSpPr>
          <p:cNvPr id="10" name="PlaceHolder 9"/>
          <p:cNvSpPr>
            <a:spLocks noGrp="1"/>
          </p:cNvSpPr>
          <p:nvPr>
            <p:ph type="sldNum" idx="71"/>
          </p:nvPr>
        </p:nvSpPr>
        <p:spPr/>
        <p:txBody>
          <a:bodyPr/>
          <a:p>
            <a:fld id="{0C2C3506-9CDC-4CCE-98FE-1B3D6E25084C}" type="slidenum">
              <a:t>&lt;#&gt;</a:t>
            </a:fld>
          </a:p>
        </p:txBody>
      </p:sp>
      <p:sp>
        <p:nvSpPr>
          <p:cNvPr id="11" name="PlaceHolder 10"/>
          <p:cNvSpPr>
            <a:spLocks noGrp="1"/>
          </p:cNvSpPr>
          <p:nvPr>
            <p:ph type="dt" idx="69"/>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sldNum" idx="72"/>
          </p:nvPr>
        </p:nvSpPr>
        <p:spPr/>
        <p:txBody>
          <a:bodyPr/>
          <a:p>
            <a:fld id="{AF6081A2-DF3C-41AD-8926-120A2955288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D70B8A8-A636-4DA2-8976-9FEC687A785D}"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2"/>
          </p:nvPr>
        </p:nvSpPr>
        <p:spPr/>
        <p:txBody>
          <a:bodyPr/>
          <a:p>
            <a:fld id="{16F17036-C0E3-4E45-AC1C-20BD05EF7323}"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2"/>
          </p:nvPr>
        </p:nvSpPr>
        <p:spPr/>
        <p:txBody>
          <a:bodyPr/>
          <a:p>
            <a:fld id="{81A722A8-CDFD-40E3-9DEC-A86E7EFD0DE6}"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2"/>
          </p:nvPr>
        </p:nvSpPr>
        <p:spPr/>
        <p:txBody>
          <a:bodyPr/>
          <a:p>
            <a:fld id="{7DD8AD54-DEBE-4DAC-B9D3-068EBB7B4D2A}"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2"/>
          </p:nvPr>
        </p:nvSpPr>
        <p:spPr/>
        <p:txBody>
          <a:bodyPr/>
          <a:p>
            <a:fld id="{BBAF2A79-BF6D-49B6-BE36-A03D79BF83DB}"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2"/>
          </p:nvPr>
        </p:nvSpPr>
        <p:spPr/>
        <p:txBody>
          <a:bodyPr/>
          <a:p>
            <a:fld id="{9828A515-3B09-4409-997B-3E8CE5EFA14E}"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3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3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3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2"/>
          </p:nvPr>
        </p:nvSpPr>
        <p:spPr/>
        <p:txBody>
          <a:bodyPr/>
          <a:p>
            <a:fld id="{88720004-1E54-435A-AC4B-9EF8777A19F5}"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3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3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3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2"/>
          </p:nvPr>
        </p:nvSpPr>
        <p:spPr/>
        <p:txBody>
          <a:bodyPr/>
          <a:p>
            <a:fld id="{B2F721E0-1BA6-4A7D-BBB2-8520A11FB823}"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3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2"/>
          </p:nvPr>
        </p:nvSpPr>
        <p:spPr/>
        <p:txBody>
          <a:bodyPr/>
          <a:p>
            <a:fld id="{2C7ABDD9-A4AE-4798-A5FF-9FE0DC481E1F}"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4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2"/>
          </p:nvPr>
        </p:nvSpPr>
        <p:spPr/>
        <p:txBody>
          <a:bodyPr/>
          <a:p>
            <a:fld id="{7C4909B6-F2CC-4C5B-84C0-D2191C1E1D9F}"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sldNum" idx="72"/>
          </p:nvPr>
        </p:nvSpPr>
        <p:spPr/>
        <p:txBody>
          <a:bodyPr/>
          <a:p>
            <a:fld id="{0A308FF4-37B2-45FB-A98B-BD04FBDE2C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DA590D0-FEAE-4B73-A875-519FC42C9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0B1F0F3-7E64-42D4-BFD4-CF8F6FC1423A}"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5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sldNum" idx="72"/>
          </p:nvPr>
        </p:nvSpPr>
        <p:spPr/>
        <p:txBody>
          <a:bodyPr/>
          <a:p>
            <a:fld id="{712D137F-AB47-4F66-AA71-A0D98BAB123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1D40DD9-C964-44F7-8784-CBCBC7A9F46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7277A58-9692-4A98-A9C0-FA23A07EB7D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C73B3BC-E57B-49A7-96EC-B692517419B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6BEF337-BCFD-412A-ACC6-52899F63CFE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8B706F76-5F8B-463B-B888-620B3EBDC17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29C6EB56-6769-4287-A898-6A9CCFCA959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55420FC6-44F6-43EA-8124-54E023EC0DC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36B23BAC-6424-4C5C-BA82-D0BB607EA88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1EC02A90-351F-4D68-A898-0EFF01EC7C1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3B79631-CB6E-4E52-B600-A60085853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CF610D43-21D8-48D2-B7D3-4DDC1B33148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1A9E0A3A-30BE-49BA-AE32-88172E83F9F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D122314D-46CB-4F20-A007-0242362E2CF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E3A374E-47A5-4462-A1BA-9ABAB908D84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FA30FAA3-F0B8-419A-9619-D6F17424863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332E69B-8508-4380-90D7-A6AA269A6A3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97E05858-A51B-4764-9FE7-831249A75BB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53D70321-6DA3-4484-9039-6E5A1296B8D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D28F361B-1BDA-44CF-AAAE-CE96D46E5E1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C043FACD-7B3E-49A7-A104-EDFE93E3AAF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7928892-569C-4CEF-8394-F20F7FF73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85A74E98-F3F6-42F5-BCA0-EFFDE5425A8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26D7A226-38FC-4CE0-B1B0-F0ABAF9A071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FEE75E18-0869-4672-B4F0-DFCEC4D27BC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27ACB7FB-A21B-4DA4-BFA5-EF1B6A2DF67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CCA48263-D1C5-484C-B225-86A921450F6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55E1602D-7B63-4558-9E5B-F1EF5E4F028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2E9682A2-1947-46D3-BCAA-F832EC7995F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DF05D4D8-DDD6-4D89-AF0E-1CFE56F9B45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30E0A587-454C-410B-96BE-E30FE684764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B9CF7A53-7342-4C45-A517-3EE1B57B447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9CFD1D6-9FF6-4C02-A194-9AB1E6D10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C5135896-8D6B-4555-99A4-640BA22CECB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6"/>
          </p:nvPr>
        </p:nvSpPr>
        <p:spPr/>
        <p:txBody>
          <a:bodyPr/>
          <a:p>
            <a:fld id="{E0C61F7B-FEE9-4764-8CB9-B4AD8CBD267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D5C3AC12-E49C-46DD-9D0B-5821A7152B8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520D4DAF-FA14-4DAF-9F95-24743FA40D4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9C5451C0-C23D-47BA-A527-4646982DAC2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6B3DE3C8-8105-40F3-9379-462435E1F0E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B3D459FF-814D-4C62-A7C6-BE98B7A97C0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C28C5119-C6BA-4C22-B659-F10FA84D6EF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3FA9D031-7FDD-417A-94CD-FFF2C634011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755BF9F4-9215-49BE-B8C7-D849B947A90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3CB5916-7D42-40BC-BCEC-8C4869BB2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E0A4B0AE-56CA-4D1E-939A-A7A63BF36DA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6"/>
          </p:nvPr>
        </p:nvSpPr>
        <p:spPr/>
        <p:txBody>
          <a:bodyPr/>
          <a:p>
            <a:fld id="{8F4A5A87-5A64-4107-A56A-DF39C9C2266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6"/>
          </p:nvPr>
        </p:nvSpPr>
        <p:spPr/>
        <p:txBody>
          <a:bodyPr/>
          <a:p>
            <a:fld id="{DE0FEBDF-C2A6-4396-99CB-28E40FC7FC1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1B853FA1-B2ED-4DD9-9A3D-E45D48AF8ED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58A96302-3E2D-4BC1-B97B-B247B56CE81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EC4BC778-333C-406D-84C8-5002D2454A5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DDD2D8C4-F299-47CD-8E1A-DB593F80FD3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B196CCCC-AB5C-4997-82C0-CAA5F654BDB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27863571-E0C6-4A81-9A80-9938C1E7447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79C3FCF5-C997-4E47-91CF-64FFD93F4CE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6A4E987-9DBD-4434-A484-8C858E5D2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78291DE9-2598-41CE-89FE-99125AD44C5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FB4B0A39-5C65-4850-9311-16699419C91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36095E17-6045-4A7D-923B-98756F0299B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571E3DA9-37BC-48FC-8AE2-2F1A379A813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06947173-4F55-437D-914F-81C68B634D3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2"/>
          </p:nvPr>
        </p:nvSpPr>
        <p:spPr/>
        <p:txBody>
          <a:bodyPr/>
          <a:p>
            <a:fld id="{C3870354-B0D9-4F2E-99D9-7DEF20B70A6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1FFE44DE-4553-48E9-8C49-6767F278C0F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12D1D490-5E71-44E5-B779-6768F21F6C4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2E3FF243-97F9-44F4-AC36-3E84025DC59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2B40CF3C-9EA6-439B-AE86-87823E9012F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945AE3D-35B8-4228-B68D-0ADA86D86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673B2E76-78F4-453D-A7DF-C39F2B8CBD1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1D36F1FB-AE41-4A35-9F15-706198FFDC4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7FBEE8FC-7196-481F-8441-C7009362D91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AF2F8E5E-7F22-472C-8286-EE2F0DAFF54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762F9CAC-6B3E-40A7-B036-8D2C2520CDB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2"/>
          </p:nvPr>
        </p:nvSpPr>
        <p:spPr/>
        <p:txBody>
          <a:bodyPr/>
          <a:p>
            <a:fld id="{151CF7B6-5976-4CE1-B43B-B1E7792AC5D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2"/>
          </p:nvPr>
        </p:nvSpPr>
        <p:spPr/>
        <p:txBody>
          <a:bodyPr/>
          <a:p>
            <a:fld id="{7EB13E67-4675-41CE-A030-D344C02A6645}"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5"/>
          </p:nvPr>
        </p:nvSpPr>
        <p:spPr/>
        <p:txBody>
          <a:bodyPr/>
          <a:p>
            <a:fld id="{95736D0B-5CFD-4775-9E87-9E0C77A04A5F}"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259FED09-6044-49F1-BD99-F81B32778F6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3C5ABAD9-6848-4745-8EA2-6C105E28EA7E}"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left_bar art"/>
          <p:cNvPicPr/>
          <p:nvPr/>
        </p:nvPicPr>
        <p:blipFill>
          <a:blip r:embed="rId3"/>
          <a:stretch/>
        </p:blipFill>
        <p:spPr>
          <a:xfrm>
            <a:off x="0" y="0"/>
            <a:ext cx="2514600" cy="7086600"/>
          </a:xfrm>
          <a:prstGeom prst="rect">
            <a:avLst/>
          </a:prstGeom>
          <a:ln w="0">
            <a:noFill/>
          </a:ln>
        </p:spPr>
      </p:pic>
      <p:sp>
        <p:nvSpPr>
          <p:cNvPr id="1"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2"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3" name="PlaceHolder 3"/>
          <p:cNvSpPr>
            <a:spLocks noGrp="1"/>
          </p:cNvSpPr>
          <p:nvPr>
            <p:ph type="dt" idx="1"/>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 name="PlaceHolder 4"/>
          <p:cNvSpPr>
            <a:spLocks noGrp="1"/>
          </p:cNvSpPr>
          <p:nvPr>
            <p:ph type="sldNum" idx="2"/>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ACD99-33E9-49FC-9503-C45EC4B3E679}"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ftr" idx="3"/>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380"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381" name="PlaceHolder 3"/>
          <p:cNvSpPr>
            <a:spLocks noGrp="1"/>
          </p:cNvSpPr>
          <p:nvPr>
            <p:ph type="dt" idx="27"/>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82" name="PlaceHolder 4"/>
          <p:cNvSpPr>
            <a:spLocks noGrp="1"/>
          </p:cNvSpPr>
          <p:nvPr>
            <p:ph type="sldNum" idx="28"/>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E38CF-0D2D-42FB-B0F0-0CC8F3ACE91C}"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383" name="PlaceHolder 5"/>
          <p:cNvSpPr>
            <a:spLocks noGrp="1"/>
          </p:cNvSpPr>
          <p:nvPr>
            <p:ph type="ftr" idx="29"/>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421"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422" name="PlaceHolder 3"/>
          <p:cNvSpPr>
            <a:spLocks noGrp="1"/>
          </p:cNvSpPr>
          <p:nvPr>
            <p:ph type="dt" idx="30"/>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3" name="PlaceHolder 4"/>
          <p:cNvSpPr>
            <a:spLocks noGrp="1"/>
          </p:cNvSpPr>
          <p:nvPr>
            <p:ph type="sldNum" idx="31"/>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A04A3-F849-4477-A6EF-EA511D27BC29}"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424" name="PlaceHolder 5"/>
          <p:cNvSpPr>
            <a:spLocks noGrp="1"/>
          </p:cNvSpPr>
          <p:nvPr>
            <p:ph type="ftr" idx="32"/>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462"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463" name="PlaceHolder 3"/>
          <p:cNvSpPr>
            <a:spLocks noGrp="1"/>
          </p:cNvSpPr>
          <p:nvPr>
            <p:ph type="dt" idx="33"/>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4" name="PlaceHolder 4"/>
          <p:cNvSpPr>
            <a:spLocks noGrp="1"/>
          </p:cNvSpPr>
          <p:nvPr>
            <p:ph type="sldNum" idx="34"/>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DC9E7-78E1-4C6D-8764-8433706DD808}"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465" name="PlaceHolder 5"/>
          <p:cNvSpPr>
            <a:spLocks noGrp="1"/>
          </p:cNvSpPr>
          <p:nvPr>
            <p:ph type="ftr" idx="35"/>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503"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504" name="PlaceHolder 3"/>
          <p:cNvSpPr>
            <a:spLocks noGrp="1"/>
          </p:cNvSpPr>
          <p:nvPr>
            <p:ph type="dt" idx="36"/>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5" name="PlaceHolder 4"/>
          <p:cNvSpPr>
            <a:spLocks noGrp="1"/>
          </p:cNvSpPr>
          <p:nvPr>
            <p:ph type="sldNum" idx="37"/>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B20A8-3091-45F9-B927-435F77CE011D}"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506" name="PlaceHolder 5"/>
          <p:cNvSpPr>
            <a:spLocks noGrp="1"/>
          </p:cNvSpPr>
          <p:nvPr>
            <p:ph type="ftr" idx="38"/>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43"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4"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5"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6"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4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49" name="PlaceHolder 3"/>
          <p:cNvSpPr>
            <a:spLocks noGrp="1"/>
          </p:cNvSpPr>
          <p:nvPr>
            <p:ph type="dt" idx="39"/>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0" name="PlaceHolder 4"/>
          <p:cNvSpPr>
            <a:spLocks noGrp="1"/>
          </p:cNvSpPr>
          <p:nvPr>
            <p:ph type="ftr" idx="40"/>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1" name="PlaceHolder 5"/>
          <p:cNvSpPr>
            <a:spLocks noGrp="1"/>
          </p:cNvSpPr>
          <p:nvPr>
            <p:ph type="sldNum" idx="41"/>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3FACF-E800-40CD-951C-8737AB3A35FB}"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8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90" name="PlaceHolder 3"/>
          <p:cNvSpPr>
            <a:spLocks noGrp="1"/>
          </p:cNvSpPr>
          <p:nvPr>
            <p:ph type="dt" idx="4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91" name="PlaceHolder 4"/>
          <p:cNvSpPr>
            <a:spLocks noGrp="1"/>
          </p:cNvSpPr>
          <p:nvPr>
            <p:ph type="ftr" idx="4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92" name="PlaceHolder 5"/>
          <p:cNvSpPr>
            <a:spLocks noGrp="1"/>
          </p:cNvSpPr>
          <p:nvPr>
            <p:ph type="sldNum" idx="4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7F7E8-4A35-4113-BCEC-720F8E84F7E0}"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2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63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633" name="PlaceHolder 3"/>
          <p:cNvSpPr>
            <a:spLocks noGrp="1"/>
          </p:cNvSpPr>
          <p:nvPr>
            <p:ph type="dt" idx="45"/>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4" name="PlaceHolder 4"/>
          <p:cNvSpPr>
            <a:spLocks noGrp="1"/>
          </p:cNvSpPr>
          <p:nvPr>
            <p:ph type="ftr" idx="46"/>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5" name="PlaceHolder 5"/>
          <p:cNvSpPr>
            <a:spLocks noGrp="1"/>
          </p:cNvSpPr>
          <p:nvPr>
            <p:ph type="sldNum" idx="47"/>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F4BE9-B454-4E67-A06B-6284007029D0}"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67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674" name="PlaceHolder 3"/>
          <p:cNvSpPr>
            <a:spLocks noGrp="1"/>
          </p:cNvSpPr>
          <p:nvPr>
            <p:ph type="dt" idx="48"/>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75" name="PlaceHolder 4"/>
          <p:cNvSpPr>
            <a:spLocks noGrp="1"/>
          </p:cNvSpPr>
          <p:nvPr>
            <p:ph type="ftr" idx="49"/>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76" name="PlaceHolder 5"/>
          <p:cNvSpPr>
            <a:spLocks noGrp="1"/>
          </p:cNvSpPr>
          <p:nvPr>
            <p:ph type="sldNum" idx="50"/>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B9E25-1B00-4BFE-95F8-2C0187F36971}"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71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715" name="PlaceHolder 3"/>
          <p:cNvSpPr>
            <a:spLocks noGrp="1"/>
          </p:cNvSpPr>
          <p:nvPr>
            <p:ph type="dt" idx="5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16" name="PlaceHolder 4"/>
          <p:cNvSpPr>
            <a:spLocks noGrp="1"/>
          </p:cNvSpPr>
          <p:nvPr>
            <p:ph type="ftr" idx="5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17" name="PlaceHolder 5"/>
          <p:cNvSpPr>
            <a:spLocks noGrp="1"/>
          </p:cNvSpPr>
          <p:nvPr>
            <p:ph type="sldNum" idx="5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B0FB7-EF03-45B0-A936-4FDEE5A5351F}"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54"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75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757" name="PlaceHolder 3"/>
          <p:cNvSpPr>
            <a:spLocks noGrp="1"/>
          </p:cNvSpPr>
          <p:nvPr>
            <p:ph type="dt" idx="54"/>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58" name="PlaceHolder 4"/>
          <p:cNvSpPr>
            <a:spLocks noGrp="1"/>
          </p:cNvSpPr>
          <p:nvPr>
            <p:ph type="ftr" idx="55"/>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59" name="PlaceHolder 5"/>
          <p:cNvSpPr>
            <a:spLocks noGrp="1"/>
          </p:cNvSpPr>
          <p:nvPr>
            <p:ph type="sldNum" idx="5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F5CC5-F533-4159-95B0-03D7F6C1F6DB}"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44"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40623-C2A7-406E-B751-ACBFADC0B320}"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47"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9"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50" name="Picture 2" descr="left_bar art"/>
          <p:cNvPicPr/>
          <p:nvPr/>
        </p:nvPicPr>
        <p:blipFill>
          <a:blip r:embed="rId3"/>
          <a:stretch/>
        </p:blipFill>
        <p:spPr>
          <a:xfrm>
            <a:off x="0" y="0"/>
            <a:ext cx="2514600" cy="708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96"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97"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79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800" name="PlaceHolder 3"/>
          <p:cNvSpPr>
            <a:spLocks noGrp="1"/>
          </p:cNvSpPr>
          <p:nvPr>
            <p:ph type="dt" idx="57"/>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01" name="PlaceHolder 4"/>
          <p:cNvSpPr>
            <a:spLocks noGrp="1"/>
          </p:cNvSpPr>
          <p:nvPr>
            <p:ph type="ftr" idx="58"/>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02" name="PlaceHolder 5"/>
          <p:cNvSpPr>
            <a:spLocks noGrp="1"/>
          </p:cNvSpPr>
          <p:nvPr>
            <p:ph type="sldNum" idx="59"/>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CAE3A-609F-4AA4-8937-7F7AF1D29970}"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39"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40"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41"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8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844" name="PlaceHolder 3"/>
          <p:cNvSpPr>
            <a:spLocks noGrp="1"/>
          </p:cNvSpPr>
          <p:nvPr>
            <p:ph type="dt" idx="6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45" name="PlaceHolder 4"/>
          <p:cNvSpPr>
            <a:spLocks noGrp="1"/>
          </p:cNvSpPr>
          <p:nvPr>
            <p:ph type="ftr" idx="6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46" name="PlaceHolder 5"/>
          <p:cNvSpPr>
            <a:spLocks noGrp="1"/>
          </p:cNvSpPr>
          <p:nvPr>
            <p:ph type="sldNum" idx="6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9D6E7-861B-465D-83DA-93418276AD5C}"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83"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84"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5"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88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888" name="PlaceHolder 3"/>
          <p:cNvSpPr>
            <a:spLocks noGrp="1"/>
          </p:cNvSpPr>
          <p:nvPr>
            <p:ph type="dt" idx="6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9" name="PlaceHolder 4"/>
          <p:cNvSpPr>
            <a:spLocks noGrp="1"/>
          </p:cNvSpPr>
          <p:nvPr>
            <p:ph type="ftr" idx="6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0" name="PlaceHolder 5"/>
          <p:cNvSpPr>
            <a:spLocks noGrp="1"/>
          </p:cNvSpPr>
          <p:nvPr>
            <p:ph type="sldNum" idx="6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1FC65-A90B-4F03-A402-4B08BC818ADA}"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92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929" name="PlaceHolder 3"/>
          <p:cNvSpPr>
            <a:spLocks noGrp="1"/>
          </p:cNvSpPr>
          <p:nvPr>
            <p:ph type="dt" idx="6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30" name="PlaceHolder 4"/>
          <p:cNvSpPr>
            <a:spLocks noGrp="1"/>
          </p:cNvSpPr>
          <p:nvPr>
            <p:ph type="ftr" idx="6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31" name="PlaceHolder 5"/>
          <p:cNvSpPr>
            <a:spLocks noGrp="1"/>
          </p:cNvSpPr>
          <p:nvPr>
            <p:ph type="sldNum" idx="6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7C210-BBA6-4579-9261-8E48179146DA}"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6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6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7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97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973" name="PlaceHolder 3"/>
          <p:cNvSpPr>
            <a:spLocks noGrp="1"/>
          </p:cNvSpPr>
          <p:nvPr>
            <p:ph type="dt" idx="6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74" name="PlaceHolder 4"/>
          <p:cNvSpPr>
            <a:spLocks noGrp="1"/>
          </p:cNvSpPr>
          <p:nvPr>
            <p:ph type="ftr" idx="7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75" name="PlaceHolder 5"/>
          <p:cNvSpPr>
            <a:spLocks noGrp="1"/>
          </p:cNvSpPr>
          <p:nvPr>
            <p:ph type="sldNum" idx="7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FD2A7-116F-4F2F-9902-839DAE288A61}"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012" name="Picture 2" descr="left_bar art"/>
          <p:cNvPicPr/>
          <p:nvPr/>
        </p:nvPicPr>
        <p:blipFill>
          <a:blip r:embed="rId3"/>
          <a:stretch/>
        </p:blipFill>
        <p:spPr>
          <a:xfrm>
            <a:off x="0" y="0"/>
            <a:ext cx="2514600" cy="7086600"/>
          </a:xfrm>
          <a:prstGeom prst="rect">
            <a:avLst/>
          </a:prstGeom>
          <a:ln w="0">
            <a:noFill/>
          </a:ln>
        </p:spPr>
      </p:pic>
      <p:sp>
        <p:nvSpPr>
          <p:cNvPr id="1013" name="Rectangle 7"/>
          <p:cNvSpPr/>
          <p:nvPr/>
        </p:nvSpPr>
        <p:spPr>
          <a:xfrm>
            <a:off x="1905120" y="5715000"/>
            <a:ext cx="64008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4" name="Rectangle 9"/>
          <p:cNvSpPr/>
          <p:nvPr/>
        </p:nvSpPr>
        <p:spPr>
          <a:xfrm>
            <a:off x="1828800" y="5105520"/>
            <a:ext cx="64008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ird Edition</a:t>
            </a:r>
            <a:endParaRPr b="0" i="1"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1015" name="Rectangle 10"/>
          <p:cNvSpPr/>
          <p:nvPr/>
        </p:nvSpPr>
        <p:spPr>
          <a:xfrm>
            <a:off x="1828800" y="3886200"/>
            <a:ext cx="64008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LECTRONIC COMMERCE</a:t>
            </a:r>
            <a:endParaRPr b="0" i="1" lang="en-US" sz="2400" spc="-1" strike="noStrike">
              <a:solidFill>
                <a:srgbClr val="000000"/>
              </a:solidFill>
              <a:latin typeface="Arial"/>
            </a:endParaRPr>
          </a:p>
        </p:txBody>
      </p:sp>
      <p:sp>
        <p:nvSpPr>
          <p:cNvPr id="1016" name="Rectangle 11"/>
          <p:cNvSpPr/>
          <p:nvPr/>
        </p:nvSpPr>
        <p:spPr>
          <a:xfrm>
            <a:off x="1828800" y="4343400"/>
            <a:ext cx="64008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From Vision to Fulfillment</a:t>
            </a:r>
            <a:endParaRPr b="0" i="1" lang="en-US" sz="2400" spc="-1" strike="noStrike">
              <a:solidFill>
                <a:srgbClr val="000000"/>
              </a:solidFill>
              <a:latin typeface="Arial"/>
            </a:endParaRPr>
          </a:p>
        </p:txBody>
      </p:sp>
      <p:sp>
        <p:nvSpPr>
          <p:cNvPr id="10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0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019" name="PlaceHolder 3"/>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93936-7540-4CF2-B824-76813480BBF0}"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
        <p:nvSpPr>
          <p:cNvPr id="1020" name="PlaceHolder 4"/>
          <p:cNvSpPr>
            <a:spLocks noGrp="1"/>
          </p:cNvSpPr>
          <p:nvPr>
            <p:ph type="ftr" idx="73"/>
          </p:nvPr>
        </p:nvSpPr>
        <p:spPr>
          <a:xfrm>
            <a:off x="3124080" y="6244920"/>
            <a:ext cx="33530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87" name="Picture 2" descr="left_bar art"/>
          <p:cNvPicPr/>
          <p:nvPr/>
        </p:nvPicPr>
        <p:blipFill>
          <a:blip r:embed="rId3"/>
          <a:stretch/>
        </p:blipFill>
        <p:spPr>
          <a:xfrm>
            <a:off x="0" y="0"/>
            <a:ext cx="2514600" cy="7086600"/>
          </a:xfrm>
          <a:prstGeom prst="rect">
            <a:avLst/>
          </a:prstGeom>
          <a:ln w="0">
            <a:noFill/>
          </a:ln>
        </p:spPr>
      </p:pic>
      <p:sp>
        <p:nvSpPr>
          <p:cNvPr id="88" name="Rectangle 7"/>
          <p:cNvSpPr/>
          <p:nvPr/>
        </p:nvSpPr>
        <p:spPr>
          <a:xfrm>
            <a:off x="1905120" y="5715000"/>
            <a:ext cx="64008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 name="Rectangle 8"/>
          <p:cNvSpPr/>
          <p:nvPr/>
        </p:nvSpPr>
        <p:spPr>
          <a:xfrm>
            <a:off x="1828800" y="5791320"/>
            <a:ext cx="64008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lias M. Awad</a:t>
            </a:r>
            <a:endParaRPr b="0" i="1"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90" name="Rectangle 9"/>
          <p:cNvSpPr/>
          <p:nvPr/>
        </p:nvSpPr>
        <p:spPr>
          <a:xfrm>
            <a:off x="1828800" y="5105520"/>
            <a:ext cx="64008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ird Edition</a:t>
            </a:r>
            <a:endParaRPr b="0" i="1"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91" name="Rectangle 10"/>
          <p:cNvSpPr/>
          <p:nvPr/>
        </p:nvSpPr>
        <p:spPr>
          <a:xfrm>
            <a:off x="1828800" y="3886200"/>
            <a:ext cx="64008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LECTRONIC COMMERCE</a:t>
            </a:r>
            <a:endParaRPr b="0" i="1" lang="en-US" sz="2400" spc="-1" strike="noStrike">
              <a:solidFill>
                <a:srgbClr val="000000"/>
              </a:solidFill>
              <a:latin typeface="Arial"/>
            </a:endParaRPr>
          </a:p>
        </p:txBody>
      </p:sp>
      <p:sp>
        <p:nvSpPr>
          <p:cNvPr id="92" name="Rectangle 11"/>
          <p:cNvSpPr/>
          <p:nvPr/>
        </p:nvSpPr>
        <p:spPr>
          <a:xfrm>
            <a:off x="1828800" y="4343400"/>
            <a:ext cx="64008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From Vision to Fulfillment</a:t>
            </a:r>
            <a:endParaRPr b="0" i="1" lang="en-US" sz="2400" spc="-1" strike="noStrike">
              <a:solidFill>
                <a:srgbClr val="000000"/>
              </a:solidFill>
              <a:latin typeface="Arial"/>
            </a:endParaRPr>
          </a:p>
        </p:txBody>
      </p:sp>
      <p:sp>
        <p:nvSpPr>
          <p:cNvPr id="93"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94"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95" name="PlaceHolder 3"/>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878FC-3104-4D11-A789-060723FA3347}"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
        <p:nvSpPr>
          <p:cNvPr id="96" name="PlaceHolder 4"/>
          <p:cNvSpPr>
            <a:spLocks noGrp="1"/>
          </p:cNvSpPr>
          <p:nvPr>
            <p:ph type="ftr" idx="8"/>
          </p:nvPr>
        </p:nvSpPr>
        <p:spPr>
          <a:xfrm>
            <a:off x="3124080" y="6244920"/>
            <a:ext cx="33530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134"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135" name="PlaceHolder 3"/>
          <p:cNvSpPr>
            <a:spLocks noGrp="1"/>
          </p:cNvSpPr>
          <p:nvPr>
            <p:ph type="dt" idx="9"/>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6" name="PlaceHolder 4"/>
          <p:cNvSpPr>
            <a:spLocks noGrp="1"/>
          </p:cNvSpPr>
          <p:nvPr>
            <p:ph type="sldNum" idx="10"/>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3855E-C2D6-4586-B137-C065ED7022A4}"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137" name="PlaceHolder 5"/>
          <p:cNvSpPr>
            <a:spLocks noGrp="1"/>
          </p:cNvSpPr>
          <p:nvPr>
            <p:ph type="ftr" idx="11"/>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175"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176" name="PlaceHolder 3"/>
          <p:cNvSpPr>
            <a:spLocks noGrp="1"/>
          </p:cNvSpPr>
          <p:nvPr>
            <p:ph type="dt" idx="12"/>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7" name="PlaceHolder 4"/>
          <p:cNvSpPr>
            <a:spLocks noGrp="1"/>
          </p:cNvSpPr>
          <p:nvPr>
            <p:ph type="sldNum" idx="13"/>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5B974-D233-4B2D-B0B5-1BEADFA3268E}"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178" name="PlaceHolder 5"/>
          <p:cNvSpPr>
            <a:spLocks noGrp="1"/>
          </p:cNvSpPr>
          <p:nvPr>
            <p:ph type="ftr" idx="14"/>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216"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217" name="PlaceHolder 3"/>
          <p:cNvSpPr>
            <a:spLocks noGrp="1"/>
          </p:cNvSpPr>
          <p:nvPr>
            <p:ph type="dt" idx="15"/>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8" name="PlaceHolder 4"/>
          <p:cNvSpPr>
            <a:spLocks noGrp="1"/>
          </p:cNvSpPr>
          <p:nvPr>
            <p:ph type="sldNum" idx="16"/>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F3307-5B49-4865-9126-60850FDC53FD}"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219" name="PlaceHolder 5"/>
          <p:cNvSpPr>
            <a:spLocks noGrp="1"/>
          </p:cNvSpPr>
          <p:nvPr>
            <p:ph type="ftr" idx="17"/>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257"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258" name="PlaceHolder 3"/>
          <p:cNvSpPr>
            <a:spLocks noGrp="1"/>
          </p:cNvSpPr>
          <p:nvPr>
            <p:ph type="dt" idx="18"/>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9" name="PlaceHolder 4"/>
          <p:cNvSpPr>
            <a:spLocks noGrp="1"/>
          </p:cNvSpPr>
          <p:nvPr>
            <p:ph type="sldNum" idx="19"/>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50D69-805D-41A5-B2CA-0F6DB2397DC7}"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260" name="PlaceHolder 5"/>
          <p:cNvSpPr>
            <a:spLocks noGrp="1"/>
          </p:cNvSpPr>
          <p:nvPr>
            <p:ph type="ftr" idx="20"/>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298"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299" name="PlaceHolder 3"/>
          <p:cNvSpPr>
            <a:spLocks noGrp="1"/>
          </p:cNvSpPr>
          <p:nvPr>
            <p:ph type="dt" idx="21"/>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0" name="PlaceHolder 4"/>
          <p:cNvSpPr>
            <a:spLocks noGrp="1"/>
          </p:cNvSpPr>
          <p:nvPr>
            <p:ph type="sldNum" idx="22"/>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81E22-DBD2-40A4-851C-824C39AC8186}"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301" name="PlaceHolder 5"/>
          <p:cNvSpPr>
            <a:spLocks noGrp="1"/>
          </p:cNvSpPr>
          <p:nvPr>
            <p:ph type="ftr" idx="23"/>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339"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340" name="PlaceHolder 3"/>
          <p:cNvSpPr>
            <a:spLocks noGrp="1"/>
          </p:cNvSpPr>
          <p:nvPr>
            <p:ph type="dt" idx="24"/>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1" name="PlaceHolder 4"/>
          <p:cNvSpPr>
            <a:spLocks noGrp="1"/>
          </p:cNvSpPr>
          <p:nvPr>
            <p:ph type="sldNum" idx="25"/>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FD8B2-3D0C-42BE-9D3C-39C3FDFDA4C2}"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342" name="PlaceHolder 5"/>
          <p:cNvSpPr>
            <a:spLocks noGrp="1"/>
          </p:cNvSpPr>
          <p:nvPr>
            <p:ph type="ftr" idx="26"/>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4" name="Rectangl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873BE-8891-479D-A593-9160E18CCCDE}" type="slidenum">
              <a:rPr b="0" i="1" lang="en-US" sz="1400" spc="-1" strike="noStrike">
                <a:solidFill>
                  <a:srgbClr val="996633"/>
                </a:solidFill>
                <a:latin typeface="Arial"/>
              </a:rPr>
              <a:t>&lt;number&gt;</a:t>
            </a:fld>
            <a:endParaRPr b="0" i="1" lang="en-US" sz="1400" spc="-1" strike="noStrike">
              <a:solidFill>
                <a:srgbClr val="000000"/>
              </a:solidFill>
              <a:latin typeface="Arial"/>
            </a:endParaRPr>
          </a:p>
        </p:txBody>
      </p:sp>
      <p:sp>
        <p:nvSpPr>
          <p:cNvPr id="1065" name="Rectangle 12"/>
          <p:cNvSpPr/>
          <p:nvPr/>
        </p:nvSpPr>
        <p:spPr>
          <a:xfrm>
            <a:off x="3124080" y="6245280"/>
            <a:ext cx="33530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66" name="Rectangle 7"/>
          <p:cNvSpPr/>
          <p:nvPr/>
        </p:nvSpPr>
        <p:spPr>
          <a:xfrm>
            <a:off x="380880" y="2286000"/>
            <a:ext cx="86868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hapter 8 </a:t>
            </a:r>
            <a:endParaRPr b="0"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hannels in ecommerce</a:t>
            </a:r>
            <a:endParaRPr b="0" i="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464653"/>
                </a:solidFill>
                <a:latin typeface="Bookman Old Style"/>
              </a:rPr>
              <a:t>Order fulfilment through ecommerce..contd..</a:t>
            </a:r>
            <a:endParaRPr b="0" lang="en-US" sz="2400" spc="-1" strike="noStrike">
              <a:solidFill>
                <a:srgbClr val="464653"/>
              </a:solidFill>
              <a:latin typeface="Bookman Old Style"/>
            </a:endParaRPr>
          </a:p>
        </p:txBody>
      </p:sp>
      <p:sp>
        <p:nvSpPr>
          <p:cNvPr id="1099" name=""/>
          <p:cNvSpPr txBox="1"/>
          <p:nvPr/>
        </p:nvSpPr>
        <p:spPr>
          <a:xfrm>
            <a:off x="457200" y="1219320"/>
            <a:ext cx="8229600" cy="4937040"/>
          </a:xfrm>
          <a:prstGeom prst="rect">
            <a:avLst/>
          </a:prstGeom>
          <a:noFill/>
          <a:ln w="0">
            <a:noFill/>
          </a:ln>
        </p:spPr>
        <p:txBody>
          <a:bodyPr anchor="t">
            <a:normAutofit fontScale="88000"/>
          </a:bodyPr>
          <a:p>
            <a:pPr marL="240120" indent="-240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nsolidating Orders through the portal</a:t>
            </a:r>
            <a:endParaRPr b="0" lang="en-US" sz="2400" spc="-1" strike="noStrike">
              <a:solidFill>
                <a:srgbClr val="000000"/>
              </a:solidFill>
              <a:latin typeface="Gill Sans MT"/>
            </a:endParaRPr>
          </a:p>
          <a:p>
            <a:pPr lvl="1" marL="481680" indent="-240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Load Planning Module (LPM) tools help in consolidation</a:t>
            </a:r>
            <a:endParaRPr b="0" lang="en-US" sz="2400" spc="-1" strike="noStrike">
              <a:solidFill>
                <a:srgbClr val="464653"/>
              </a:solidFill>
              <a:latin typeface="Gill Sans MT"/>
            </a:endParaRPr>
          </a:p>
          <a:p>
            <a:pPr lvl="1" marL="481680" indent="-240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LPM considers trailer availability, customer and SKU loading constraints to plan loads</a:t>
            </a:r>
            <a:endParaRPr b="0" lang="en-US" sz="2400" spc="-1" strike="noStrike">
              <a:solidFill>
                <a:srgbClr val="464653"/>
              </a:solidFill>
              <a:latin typeface="Gill Sans MT"/>
            </a:endParaRPr>
          </a:p>
          <a:p>
            <a:pPr lvl="1" marL="481680" indent="-240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Warehouse level inventory allocation is done for the load</a:t>
            </a:r>
            <a:endParaRPr b="0" lang="en-US" sz="2400" spc="-1" strike="noStrike">
              <a:solidFill>
                <a:srgbClr val="464653"/>
              </a:solidFill>
              <a:latin typeface="Gill Sans MT"/>
            </a:endParaRPr>
          </a:p>
          <a:p>
            <a:pPr lvl="1" marL="481680" indent="-240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Shipments can be grouped</a:t>
            </a:r>
            <a:endParaRPr b="0" lang="en-US" sz="2400" spc="-1" strike="noStrike">
              <a:solidFill>
                <a:srgbClr val="464653"/>
              </a:solidFill>
              <a:latin typeface="Gill Sans MT"/>
            </a:endParaRPr>
          </a:p>
          <a:p>
            <a:pPr marL="240120" indent="-240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commerce portal in supply chain</a:t>
            </a:r>
            <a:endParaRPr b="0" lang="en-US" sz="2400" spc="-1" strike="noStrike">
              <a:solidFill>
                <a:srgbClr val="000000"/>
              </a:solidFill>
              <a:latin typeface="Gill Sans MT"/>
            </a:endParaRPr>
          </a:p>
          <a:p>
            <a:pPr lvl="1" marL="481680" indent="-240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Builds long-term strategic relationships with all the business partners including customers</a:t>
            </a:r>
            <a:endParaRPr b="0" lang="en-US" sz="2400" spc="-1" strike="noStrike">
              <a:solidFill>
                <a:srgbClr val="464653"/>
              </a:solidFill>
              <a:latin typeface="Gill Sans MT"/>
            </a:endParaRPr>
          </a:p>
          <a:p>
            <a:pPr lvl="1" marL="481680" indent="-240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Recognizes and rewards team efforts </a:t>
            </a:r>
            <a:endParaRPr b="0" lang="en-US" sz="2400" spc="-1" strike="noStrike">
              <a:solidFill>
                <a:srgbClr val="464653"/>
              </a:solidFill>
              <a:latin typeface="Gill Sans MT"/>
            </a:endParaRPr>
          </a:p>
          <a:p>
            <a:pPr lvl="1" marL="481680" indent="-240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Easy to use and implement</a:t>
            </a:r>
            <a:endParaRPr b="0" lang="en-US" sz="2400" spc="-1" strike="noStrike">
              <a:solidFill>
                <a:srgbClr val="464653"/>
              </a:solidFill>
              <a:latin typeface="Gill Sans MT"/>
            </a:endParaRPr>
          </a:p>
          <a:p>
            <a:pPr lvl="1" marL="481680" indent="-240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Flexible, modular and scaleable</a:t>
            </a:r>
            <a:endParaRPr b="0" lang="en-US" sz="2400" spc="-1" strike="noStrike">
              <a:solidFill>
                <a:srgbClr val="464653"/>
              </a:solidFill>
              <a:latin typeface="Gill Sans MT"/>
            </a:endParaRPr>
          </a:p>
          <a:p>
            <a:pPr lvl="1" marL="481680" indent="-240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Open systems, client/server</a:t>
            </a:r>
            <a:endParaRPr b="0" lang="en-US" sz="2400" spc="-1" strike="noStrike">
              <a:solidFill>
                <a:srgbClr val="464653"/>
              </a:solidFill>
              <a:latin typeface="Gill Sans MT"/>
            </a:endParaRPr>
          </a:p>
        </p:txBody>
      </p:sp>
      <p:sp>
        <p:nvSpPr>
          <p:cNvPr id="1100"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01"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3EF79-F781-4BB1-8E71-04F7A001CC77}"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464653"/>
                </a:solidFill>
                <a:latin typeface="Bookman Old Style"/>
              </a:rPr>
              <a:t>CASE: Carwale.com</a:t>
            </a:r>
            <a:r>
              <a:rPr b="0" lang="en-US" sz="3200" spc="-1" strike="noStrike">
                <a:solidFill>
                  <a:srgbClr val="464653"/>
                </a:solidFill>
                <a:latin typeface="Bookman Old Style"/>
              </a:rPr>
              <a:t> and Cardekho.com </a:t>
            </a:r>
            <a:endParaRPr b="0" lang="en-US" sz="3200" spc="-1" strike="noStrike">
              <a:solidFill>
                <a:srgbClr val="464653"/>
              </a:solidFill>
              <a:latin typeface="Bookman Old Style"/>
            </a:endParaRPr>
          </a:p>
        </p:txBody>
      </p:sp>
      <p:sp>
        <p:nvSpPr>
          <p:cNvPr id="110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Points to be discussed</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Research on suitable model based o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464653"/>
                </a:solidFill>
                <a:latin typeface="Gill Sans MT"/>
              </a:rPr>
              <a:t>Pric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464653"/>
                </a:solidFill>
                <a:latin typeface="Gill Sans MT"/>
              </a:rPr>
              <a:t>Model</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464653"/>
                </a:solidFill>
                <a:latin typeface="Gill Sans MT"/>
              </a:rPr>
              <a:t>Features</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Prospect to convert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Scheduling of test drive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Options provided</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464653"/>
                </a:solidFill>
                <a:latin typeface="Gill Sans MT"/>
              </a:rPr>
              <a:t>Colour</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464653"/>
                </a:solidFill>
                <a:latin typeface="Gill Sans MT"/>
              </a:rPr>
              <a:t>Model</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464653"/>
                </a:solidFill>
                <a:latin typeface="Gill Sans MT"/>
              </a:rPr>
              <a:t>Financial</a:t>
            </a: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
        <p:nvSpPr>
          <p:cNvPr id="1104"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05"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0D32E-D55E-44F7-98A5-165B2E5F8488}"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Case: Cafe Coffee Day</a:t>
            </a:r>
            <a:endParaRPr b="0" lang="en-US" sz="3200" spc="-1" strike="noStrike">
              <a:solidFill>
                <a:srgbClr val="464653"/>
              </a:solidFill>
              <a:latin typeface="Bookman Old Style"/>
            </a:endParaRPr>
          </a:p>
        </p:txBody>
      </p:sp>
      <p:sp>
        <p:nvSpPr>
          <p:cNvPr id="110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Discus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New business model in coffe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New experience for all stakeholder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Order fulfilmen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Value propositions to all partners</a:t>
            </a:r>
            <a:endParaRPr b="0" lang="en-US" sz="2600" spc="-1" strike="noStrike">
              <a:solidFill>
                <a:srgbClr val="000000"/>
              </a:solidFill>
              <a:latin typeface="Gill Sans MT"/>
            </a:endParaRPr>
          </a:p>
        </p:txBody>
      </p:sp>
      <p:sp>
        <p:nvSpPr>
          <p:cNvPr id="1108"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09"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15768-6300-413D-8E47-8CC3A8B64CB4}"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464653"/>
                </a:solidFill>
                <a:latin typeface="Bookman Old Style"/>
              </a:rPr>
              <a:t>Summary</a:t>
            </a:r>
            <a:endParaRPr b="0" lang="en-US" sz="3200" spc="-1" strike="noStrike">
              <a:solidFill>
                <a:srgbClr val="464653"/>
              </a:solidFill>
              <a:latin typeface="Bookman Old Style"/>
            </a:endParaRPr>
          </a:p>
        </p:txBody>
      </p:sp>
      <p:sp>
        <p:nvSpPr>
          <p:cNvPr id="111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We discussed-</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role of e-commerce in a multi channel system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Using technology </a:t>
            </a:r>
            <a:r>
              <a:rPr b="0" lang="en-US" sz="2600" spc="-1" strike="noStrike">
                <a:solidFill>
                  <a:srgbClr val="000000"/>
                </a:solidFill>
                <a:latin typeface="Gill Sans MT"/>
              </a:rPr>
              <a:t>improve effective conversion rate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formation does not fall through crack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mproving predictability, sustainability and accuracy of results</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2"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13"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730C6-8460-48A4-AACD-7140670A05F9}"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Bookman Old Style"/>
              </a:rPr>
              <a:t>Learning objectives</a:t>
            </a:r>
            <a:endParaRPr b="0" lang="en-US" sz="4000" spc="-1" strike="noStrike">
              <a:solidFill>
                <a:srgbClr val="464653"/>
              </a:solidFill>
              <a:latin typeface="Bookman Old Style"/>
            </a:endParaRPr>
          </a:p>
        </p:txBody>
      </p:sp>
      <p:sp>
        <p:nvSpPr>
          <p:cNvPr id="106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ifferent channels that are available for ecommerce</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ow to manage multiple sales in ecommerce</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ow to blend channels for growth and profitability</a:t>
            </a:r>
            <a:endParaRPr b="0" lang="en-US" sz="2000" spc="-1" strike="noStrike">
              <a:solidFill>
                <a:srgbClr val="000000"/>
              </a:solidFill>
              <a:latin typeface="Gill Sans MT"/>
            </a:endParaRPr>
          </a:p>
        </p:txBody>
      </p:sp>
      <p:sp>
        <p:nvSpPr>
          <p:cNvPr id="1069"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9DC3A-48A4-4166-ACFC-E56154753408}"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464653"/>
                </a:solidFill>
                <a:latin typeface="Bookman Old Style"/>
              </a:rPr>
              <a:t>Introduction</a:t>
            </a:r>
            <a:endParaRPr b="0" lang="en-US" sz="3200" spc="-1" strike="noStrike">
              <a:solidFill>
                <a:srgbClr val="464653"/>
              </a:solidFill>
              <a:latin typeface="Bookman Old Style"/>
            </a:endParaRPr>
          </a:p>
        </p:txBody>
      </p:sp>
      <p:sp>
        <p:nvSpPr>
          <p:cNvPr id="1071" name=""/>
          <p:cNvSpPr txBox="1"/>
          <p:nvPr/>
        </p:nvSpPr>
        <p:spPr>
          <a:xfrm>
            <a:off x="457200" y="1219320"/>
            <a:ext cx="8229600" cy="4937040"/>
          </a:xfrm>
          <a:prstGeom prst="rect">
            <a:avLst/>
          </a:prstGeom>
          <a:noFill/>
          <a:ln w="0">
            <a:noFill/>
          </a:ln>
        </p:spPr>
        <p:txBody>
          <a:bodyPr anchor="t">
            <a:normAutofit/>
          </a:bodyPr>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Channel for marketing is a mix of field sales, retail, business partners, direct marketing, call center, and electronic media</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This is already happening in In industries such as digital, technology, retail, and financial service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This implies to grow profitably and effectively, it will require a mixture of optimized channel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The optimization will lower selling costs, happier customers, and more reliable results</a:t>
            </a:r>
            <a:r>
              <a:rPr b="0" lang="en-US" sz="2300" spc="-1" strike="noStrike">
                <a:solidFill>
                  <a:srgbClr val="464653"/>
                </a:solidFill>
                <a:latin typeface="Gill Sans MT"/>
              </a:rPr>
              <a:t>	</a:t>
            </a:r>
            <a:r>
              <a:rPr b="0" lang="en-US" sz="2300" spc="-1" strike="noStrike">
                <a:solidFill>
                  <a:srgbClr val="464653"/>
                </a:solidFill>
                <a:latin typeface="Gill Sans MT"/>
              </a:rPr>
              <a:t>	</a:t>
            </a:r>
            <a:r>
              <a:rPr b="0" lang="en-US" sz="2300" spc="-1" strike="noStrike">
                <a:solidFill>
                  <a:srgbClr val="464653"/>
                </a:solidFill>
                <a:latin typeface="Gill Sans MT"/>
              </a:rPr>
              <a:t>	</a:t>
            </a:r>
            <a:br>
              <a:rPr sz="2300"/>
            </a:br>
            <a:r>
              <a:rPr b="0" lang="en-US" sz="2300" spc="-1" strike="noStrike">
                <a:solidFill>
                  <a:srgbClr val="464653"/>
                </a:solidFill>
                <a:latin typeface="Gill Sans MT"/>
              </a:rPr>
              <a:t> </a:t>
            </a:r>
            <a:endParaRPr b="0" lang="en-US" sz="2300" spc="-1" strike="noStrike">
              <a:solidFill>
                <a:srgbClr val="464653"/>
              </a:solidFill>
              <a:latin typeface="Gill Sans MT"/>
            </a:endParaRPr>
          </a:p>
        </p:txBody>
      </p:sp>
      <p:sp>
        <p:nvSpPr>
          <p:cNvPr id="1072"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73"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41A05-6A2C-4281-905B-4EB546CA3F8B}"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685800" y="304560"/>
            <a:ext cx="82296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CASE : Airtel</a:t>
            </a:r>
            <a:br>
              <a:rPr sz="3200"/>
            </a:br>
            <a:endParaRPr b="0" lang="en-US" sz="3200" spc="-1" strike="noStrike">
              <a:solidFill>
                <a:srgbClr val="464653"/>
              </a:solidFill>
              <a:latin typeface="Bookman Old Style"/>
            </a:endParaRPr>
          </a:p>
        </p:txBody>
      </p:sp>
      <p:sp>
        <p:nvSpPr>
          <p:cNvPr id="1075" name=""/>
          <p:cNvSpPr txBox="1"/>
          <p:nvPr/>
        </p:nvSpPr>
        <p:spPr>
          <a:xfrm>
            <a:off x="304920" y="1219320"/>
            <a:ext cx="8229600" cy="838080"/>
          </a:xfrm>
          <a:prstGeom prst="rect">
            <a:avLst/>
          </a:prstGeom>
          <a:noFill/>
          <a:ln w="0">
            <a:noFill/>
          </a:ln>
        </p:spPr>
        <p:txBody>
          <a:bodyPr anchor="t">
            <a:normAutofit fontScale="40000"/>
          </a:bodyPr>
          <a:p>
            <a:pPr marL="109080" indent="-10908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Gill Sans MT"/>
              </a:rPr>
              <a:t>The company initially dealt with automating customer billing processes only. The marketing was done through sales force through direct marketing route. Then it adopted mass communication channels such as TV, digital banner to attract customers. Now </a:t>
            </a:r>
            <a:r>
              <a:rPr b="0" lang="en-US" sz="2400" spc="-1" strike="noStrike">
                <a:solidFill>
                  <a:srgbClr val="000000"/>
                </a:solidFill>
                <a:latin typeface="Gill Sans MT"/>
              </a:rPr>
              <a:t>a combination of third party business  partners, such as stationary shop owners who their own office space to sell ‘recharge vouchers’ to individuals and its own key customer account sales forces along with banner advertisements in different internet websites and call center channels to generate demand and support business partners.  </a:t>
            </a:r>
            <a:endParaRPr b="0" lang="en-US" sz="2400" spc="-1" strike="noStrike">
              <a:solidFill>
                <a:srgbClr val="000000"/>
              </a:solidFill>
              <a:latin typeface="Gill Sans MT"/>
            </a:endParaRPr>
          </a:p>
        </p:txBody>
      </p:sp>
      <p:sp>
        <p:nvSpPr>
          <p:cNvPr id="1076"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77"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1BB74-BDBD-4FEF-83A5-70F898C72555}"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64653"/>
                </a:solidFill>
                <a:latin typeface="Bookman Old Style"/>
              </a:rPr>
              <a:t>e-commerce in multichannel marketing</a:t>
            </a:r>
            <a:endParaRPr b="0" lang="en-US" sz="3000" spc="-1" strike="noStrike">
              <a:solidFill>
                <a:srgbClr val="464653"/>
              </a:solidFill>
              <a:latin typeface="Bookman Old Style"/>
            </a:endParaRPr>
          </a:p>
        </p:txBody>
      </p:sp>
      <p:sp>
        <p:nvSpPr>
          <p:cNvPr id="1079" name=""/>
          <p:cNvSpPr txBox="1"/>
          <p:nvPr/>
        </p:nvSpPr>
        <p:spPr>
          <a:xfrm>
            <a:off x="457200" y="1066320"/>
            <a:ext cx="8229600" cy="5257800"/>
          </a:xfrm>
          <a:prstGeom prst="rect">
            <a:avLst/>
          </a:prstGeom>
          <a:noFill/>
          <a:ln w="0">
            <a:noFill/>
          </a:ln>
        </p:spPr>
        <p:txBody>
          <a:bodyPr anchor="t">
            <a:normAutofit fontScale="91000"/>
          </a:bodyPr>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commerce portals need to collect data for each and every sale</a:t>
            </a:r>
            <a:endParaRPr b="0" lang="en-US" sz="20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se data generate information so that proper managerial decision is taken</a:t>
            </a:r>
            <a:endParaRPr b="0" lang="en-US" sz="20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se decisions help improve sales for the organization</a:t>
            </a:r>
            <a:endParaRPr b="0" lang="en-US" sz="20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hannels come in many different types and roles</a:t>
            </a:r>
            <a:endParaRPr b="0" lang="en-US" sz="2000" spc="-1" strike="noStrike">
              <a:solidFill>
                <a:srgbClr val="000000"/>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Sales channel</a:t>
            </a:r>
            <a:endParaRPr b="0" lang="en-US" sz="17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Service channels</a:t>
            </a:r>
            <a:endParaRPr b="0" lang="en-US" sz="17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Direct marketing channel</a:t>
            </a:r>
            <a:endParaRPr b="0" lang="en-US" sz="17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Business partner channel</a:t>
            </a:r>
            <a:endParaRPr b="0" lang="en-US" sz="17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Ecommerce channel</a:t>
            </a:r>
            <a:endParaRPr b="0" lang="en-US" sz="17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Tele marketing channel</a:t>
            </a:r>
            <a:endParaRPr b="0" lang="en-US" sz="17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Call centre based channel</a:t>
            </a:r>
            <a:endParaRPr b="0" lang="en-US" sz="17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Email based channel</a:t>
            </a:r>
            <a:endParaRPr b="0" lang="en-US" sz="17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SMS based channel</a:t>
            </a:r>
            <a:endParaRPr b="0" lang="en-US" sz="1700" spc="-1" strike="noStrike">
              <a:solidFill>
                <a:srgbClr val="464653"/>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mbine these call center and electronic channels with traditional field sales, retail, and distribution partners into multichannel selling systems</a:t>
            </a:r>
            <a:endParaRPr b="0" lang="en-US" sz="20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080"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1"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404B3-CF2C-4ED7-B2CB-0E7D47742208}"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7632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4653"/>
                </a:solidFill>
                <a:latin typeface="Bookman Old Style"/>
              </a:rPr>
              <a:t>e-commerce in multichannel marketing...contd..</a:t>
            </a:r>
            <a:endParaRPr b="0" lang="en-US" sz="2400" spc="-1" strike="noStrike">
              <a:solidFill>
                <a:srgbClr val="464653"/>
              </a:solidFill>
              <a:latin typeface="Bookman Old Style"/>
            </a:endParaRPr>
          </a:p>
        </p:txBody>
      </p:sp>
      <p:sp>
        <p:nvSpPr>
          <p:cNvPr id="1083" name=""/>
          <p:cNvSpPr txBox="1"/>
          <p:nvPr/>
        </p:nvSpPr>
        <p:spPr>
          <a:xfrm>
            <a:off x="457200" y="914400"/>
            <a:ext cx="8229600" cy="4937040"/>
          </a:xfrm>
          <a:prstGeom prst="rect">
            <a:avLst/>
          </a:prstGeom>
          <a:noFill/>
          <a:ln w="0">
            <a:noFill/>
          </a:ln>
        </p:spPr>
        <p:txBody>
          <a:bodyPr anchor="t">
            <a:normAutofit fontScale="91000"/>
          </a:bodyPr>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ternet penetration and consumers becoming are tech savvy</a:t>
            </a:r>
            <a:endParaRPr b="0" lang="en-US" sz="18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an support both direct selling and indirect selling</a:t>
            </a:r>
            <a:endParaRPr b="0" lang="en-US" sz="18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ell vs HP :  unlike Dell, which thrusts its marketing only on e-commerce, HP has decided to use multi channel marketing so as to get maximum market share in personal computer industry - “hybrid” process had a 50 percent close rate</a:t>
            </a:r>
            <a:endParaRPr b="0" lang="en-US" sz="18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ybrid reduces </a:t>
            </a:r>
            <a:endParaRPr b="0" lang="en-US" sz="1800" spc="-1" strike="noStrike">
              <a:solidFill>
                <a:srgbClr val="000000"/>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Gill Sans MT"/>
              </a:rPr>
              <a:t>conflicts between selling channels,</a:t>
            </a:r>
            <a:endParaRPr b="0" lang="en-US" sz="18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Gill Sans MT"/>
              </a:rPr>
              <a:t>lost sales leads that fall through the cracks, </a:t>
            </a:r>
            <a:endParaRPr b="0" lang="en-US" sz="18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Gill Sans MT"/>
              </a:rPr>
              <a:t>gaps in market coverage</a:t>
            </a:r>
            <a:endParaRPr b="0" lang="en-US" sz="18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Gill Sans MT"/>
              </a:rPr>
              <a:t>focus from building channels to integrate channels</a:t>
            </a:r>
            <a:endParaRPr b="0" lang="en-US" sz="1800" spc="-1" strike="noStrike">
              <a:solidFill>
                <a:srgbClr val="464653"/>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uch hybrid channels reduce</a:t>
            </a:r>
            <a:endParaRPr b="0" lang="en-US" sz="1800" spc="-1" strike="noStrike">
              <a:solidFill>
                <a:srgbClr val="000000"/>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Gill Sans MT"/>
              </a:rPr>
              <a:t>Salespeople in different channels will compete for the same business;</a:t>
            </a:r>
            <a:endParaRPr b="0" lang="en-US" sz="18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Gill Sans MT"/>
              </a:rPr>
              <a:t>Leads might not be followed up for converting them to customers;</a:t>
            </a:r>
            <a:endParaRPr b="0" lang="en-US" sz="18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Gill Sans MT"/>
              </a:rPr>
              <a:t>Inconsistencies in customer relationship management;</a:t>
            </a:r>
            <a:endParaRPr b="0" lang="en-US" sz="18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Gill Sans MT"/>
              </a:rPr>
              <a:t>Ineffective integration of channels because of which there could be revenue leaks.</a:t>
            </a:r>
            <a:endParaRPr b="0" lang="en-US" sz="18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53"/>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084"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5"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79281-72E0-4191-BDD3-D149D90CDB67}"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64653"/>
                </a:solidFill>
                <a:latin typeface="Bookman Old Style"/>
              </a:rPr>
              <a:t>e-commerce in multichannel marketing...contd..</a:t>
            </a:r>
            <a:endParaRPr b="0" lang="en-US" sz="3000" spc="-1" strike="noStrike">
              <a:solidFill>
                <a:srgbClr val="464653"/>
              </a:solidFill>
              <a:latin typeface="Bookman Old Style"/>
            </a:endParaRPr>
          </a:p>
        </p:txBody>
      </p:sp>
      <p:sp>
        <p:nvSpPr>
          <p:cNvPr id="108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To be effective in multichannel system, e-commerce should define</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Service Level Agreements (SLA) for each channel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new incentive plans that encourage people in different channels to work together</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strategizing the entire potential market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defining new rules and channel policies </a:t>
            </a:r>
            <a:endParaRPr b="0" lang="en-US" sz="2300" spc="-1" strike="noStrike">
              <a:solidFill>
                <a:srgbClr val="464653"/>
              </a:solidFill>
              <a:latin typeface="Gill Sans MT"/>
            </a:endParaRPr>
          </a:p>
        </p:txBody>
      </p:sp>
      <p:sp>
        <p:nvSpPr>
          <p:cNvPr id="1088"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9"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89E4B-932F-4E7A-B76D-2F688BCB5A14}"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464653"/>
                </a:solidFill>
                <a:latin typeface="Bookman Old Style"/>
              </a:rPr>
              <a:t>Order fulfilment through ecommerce</a:t>
            </a:r>
            <a:endParaRPr b="0" lang="en-US" sz="3200" spc="-1" strike="noStrike">
              <a:solidFill>
                <a:srgbClr val="464653"/>
              </a:solidFill>
              <a:latin typeface="Bookman Old Style"/>
            </a:endParaRPr>
          </a:p>
        </p:txBody>
      </p:sp>
      <p:sp>
        <p:nvSpPr>
          <p:cNvPr id="1091" name=""/>
          <p:cNvSpPr txBox="1"/>
          <p:nvPr/>
        </p:nvSpPr>
        <p:spPr>
          <a:xfrm>
            <a:off x="457200" y="1219320"/>
            <a:ext cx="8229600" cy="4937040"/>
          </a:xfrm>
          <a:prstGeom prst="rect">
            <a:avLst/>
          </a:prstGeom>
          <a:noFill/>
          <a:ln w="0">
            <a:noFill/>
          </a:ln>
        </p:spPr>
        <p:txBody>
          <a:bodyPr anchor="t">
            <a:normAutofit fontScale="90000"/>
          </a:bodyPr>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Integrated environment so as to </a:t>
            </a:r>
            <a:r>
              <a:rPr b="0" lang="en-US" sz="2600" spc="-1" strike="noStrike">
                <a:solidFill>
                  <a:srgbClr val="000000"/>
                </a:solidFill>
                <a:latin typeface="Gill Sans MT"/>
              </a:rPr>
              <a:t>build partnerships with its vendors, sub-contractors, logistics providers as well as its customers</a:t>
            </a:r>
            <a:endParaRPr b="0" lang="en-US" sz="26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elps its stakeholders in increasing their value proposition</a:t>
            </a:r>
            <a:endParaRPr b="0" lang="en-US" sz="26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long term business strategic partnership is developed</a:t>
            </a:r>
            <a:endParaRPr b="0" lang="en-US" sz="26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ovides support with different degree of customization to suit the partners specific requirements</a:t>
            </a:r>
            <a:endParaRPr b="0" lang="en-US" sz="26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ustomers are offered a choice of different levels of support to suit their specific requirements</a:t>
            </a:r>
            <a:endParaRPr b="0" lang="en-US" sz="26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oject management tools help to provide a detailed plan and schedule for the implementation program</a:t>
            </a:r>
            <a:endParaRPr b="0" lang="en-US" sz="2600" spc="-1" strike="noStrike">
              <a:solidFill>
                <a:srgbClr val="000000"/>
              </a:solidFill>
              <a:latin typeface="Gill Sans MT"/>
            </a:endParaRPr>
          </a:p>
        </p:txBody>
      </p:sp>
      <p:sp>
        <p:nvSpPr>
          <p:cNvPr id="1092"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93"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2ECD9-F74F-45B5-994D-245567C1F468}"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464653"/>
                </a:solidFill>
                <a:latin typeface="Bookman Old Style"/>
              </a:rPr>
              <a:t>Order fulfilment through ecommerce..contd..</a:t>
            </a:r>
            <a:endParaRPr b="0" lang="en-US" sz="2400" spc="-1" strike="noStrike">
              <a:solidFill>
                <a:srgbClr val="464653"/>
              </a:solidFill>
              <a:latin typeface="Bookman Old Style"/>
            </a:endParaRPr>
          </a:p>
        </p:txBody>
      </p:sp>
      <p:sp>
        <p:nvSpPr>
          <p:cNvPr id="1095" name=""/>
          <p:cNvSpPr txBox="1"/>
          <p:nvPr/>
        </p:nvSpPr>
        <p:spPr>
          <a:xfrm>
            <a:off x="457200" y="1219320"/>
            <a:ext cx="8229600" cy="4937040"/>
          </a:xfrm>
          <a:prstGeom prst="rect">
            <a:avLst/>
          </a:prstGeom>
          <a:noFill/>
          <a:ln w="0">
            <a:noFill/>
          </a:ln>
        </p:spPr>
        <p:txBody>
          <a:bodyPr anchor="t">
            <a:normAutofit fontScale="96000"/>
          </a:bodyPr>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commerce portals provide required training and skills to their partners </a:t>
            </a:r>
            <a:endParaRPr b="0" lang="en-US" sz="2000" spc="-1" strike="noStrike">
              <a:solidFill>
                <a:srgbClr val="000000"/>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impart online training modules </a:t>
            </a:r>
            <a:endParaRPr b="0" lang="en-US" sz="20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Online training reduces time involved in logistics</a:t>
            </a:r>
            <a:endParaRPr b="0" lang="en-US" sz="2000" spc="-1" strike="noStrike">
              <a:solidFill>
                <a:srgbClr val="464653"/>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ntinuously fine-tuned to enhance response to market needs</a:t>
            </a:r>
            <a:endParaRPr b="0" lang="en-US" sz="20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ventory Management through the portal</a:t>
            </a:r>
            <a:endParaRPr b="0" lang="en-US" sz="20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elps in Inbound Planning Process</a:t>
            </a:r>
            <a:endParaRPr b="0" lang="en-US" sz="2000" spc="-1" strike="noStrike">
              <a:solidFill>
                <a:srgbClr val="000000"/>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Inquire into expected receipts against purchase orders or Advance Shipment Notices (ASN)</a:t>
            </a:r>
            <a:endParaRPr b="0" lang="en-US" sz="20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Re) print receiving worksheets for an ASN </a:t>
            </a:r>
            <a:endParaRPr b="0" lang="en-US" sz="20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Create or modify ASNs</a:t>
            </a:r>
            <a:endParaRPr b="0" lang="en-US" sz="20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Create LPN's (License Plate Numbers)</a:t>
            </a:r>
            <a:endParaRPr b="0" lang="en-US" sz="20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464653"/>
                </a:solidFill>
                <a:latin typeface="Gill Sans MT"/>
              </a:rPr>
              <a:t>Schedule docks and workers for unloading</a:t>
            </a:r>
            <a:endParaRPr b="0" lang="en-US" sz="20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464653"/>
                </a:solidFill>
                <a:latin typeface="Gill Sans MT"/>
              </a:rPr>
              <a:t>Enter, modify or change the status of ASN's</a:t>
            </a:r>
            <a:endParaRPr b="0" lang="en-US" sz="20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096"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97"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CC0F8-DE29-4259-B223-1C8D81F6D85B}"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2T00:21:47Z</dcterms:created>
  <dc:creator>RGPlatt</dc:creator>
  <dc:description/>
  <dc:language>en-US</dc:language>
  <cp:lastModifiedBy>Sanjay</cp:lastModifiedBy>
  <dcterms:modified xsi:type="dcterms:W3CDTF">2013-04-03T17:07:59Z</dcterms:modified>
  <cp:revision>417</cp:revision>
  <dc:subject>Awad 3rd ed</dc:subject>
  <dc:title>The Dawn of a Maturing Industr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3</vt:r8>
  </property>
</Properties>
</file>